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5.png" ContentType="image/png"/>
  <Override PartName="/ppt/media/image13.wmf" ContentType="image/x-wmf"/>
  <Override PartName="/ppt/media/image29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2.wmf" ContentType="image/x-wmf"/>
  <Override PartName="/ppt/media/image30.jpeg" ContentType="image/jpeg"/>
  <Override PartName="/ppt/media/image6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032-44F5-41E9-AD04-E56DA75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203-862E-4188-B2DE-B5543C53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F11-61A1-4377-A694-4BEDF800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1BA-8713-43B1-81F5-30421CB0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A75-5DB1-405D-B3A0-A955803F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4A94-28AE-4E6A-AF20-C9EE06F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9831-AF77-4319-9BDF-B1102B92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F63-4BF5-4EE4-A549-0B66D9B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44E-74BF-4B8F-94C7-01D4BA93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0DF3-7D93-4947-BD7D-AF2CEF1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E7F-65B5-435D-B9EE-A19B0EC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5C4-14F8-424A-A2E0-CAE4054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4364-5DD1-4A7F-A96B-3E4606E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56A-9393-47BA-951B-CC8285A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AEB-EAF2-45D7-A545-9C2418A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B38B-98C3-4459-9A89-1BC1B4B9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63D-4D7B-41B0-A22F-1DFC08EA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E54-ACD1-4530-9F16-E379FB9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4A3-796A-48C6-A645-4179867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64E-EC48-4A54-A6B7-208C7BD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F7D-41BA-4845-A708-47596D4A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0F9-CAC3-428A-BFC2-56E489A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DEF-3A27-4E41-BAFB-75FB081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BB9-74F0-4328-AB20-4B7A8EA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B15-E51C-421E-975A-F5835FCB4F8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043-E70E-4A4E-A64A-4768B3ECA8AE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8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68580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191120" y="2324160"/>
            <a:ext cx="49528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b69c3"/>
                </a:solidFill>
                <a:latin typeface="Times New Roman"/>
              </a:rPr>
              <a:t>Stage 4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te of obliv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lta brain waves 50%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f the ti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es in leng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leepwal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d wett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alking out lo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2743200"/>
            <a:ext cx="1067040" cy="24382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419720" y="2286000"/>
            <a:ext cx="472428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Rapid Eye Movement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(</a:t>
            </a: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dreaming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 cycles in and out after stage 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rregular breathing/pu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renal and sex hormones incre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wake” brain wa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ccur every 90 for 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123720" y="2590920"/>
            <a:ext cx="1143000" cy="3429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00" y="2209680"/>
            <a:ext cx="8996400" cy="4606560"/>
            <a:chOff x="1800" y="2209680"/>
            <a:chExt cx="8996400" cy="4606560"/>
          </a:xfrm>
        </p:grpSpPr>
        <p:grpSp>
          <p:nvGrpSpPr>
            <p:cNvPr id="330" name=""/>
            <p:cNvGrpSpPr/>
            <p:nvPr/>
          </p:nvGrpSpPr>
          <p:grpSpPr>
            <a:xfrm>
              <a:off x="1484640" y="2284200"/>
              <a:ext cx="7141320" cy="3670560"/>
              <a:chOff x="1484640" y="2284200"/>
              <a:chExt cx="7141320" cy="36705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484640" y="2284200"/>
                <a:ext cx="7140960" cy="3670560"/>
                <a:chOff x="1484640" y="2284200"/>
                <a:chExt cx="7140960" cy="3670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484640" y="2284200"/>
                  <a:ext cx="7140960" cy="3670560"/>
                </a:xfrm>
                <a:prstGeom prst="rect">
                  <a:avLst/>
                </a:prstGeom>
                <a:solidFill>
                  <a:srgbClr val="9cdcda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4756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1084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5260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9436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3612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9940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762680" y="2284200"/>
                  <a:ext cx="0" cy="3670560"/>
                </a:xfrm>
                <a:prstGeom prst="line">
                  <a:avLst/>
                </a:prstGeom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1484640" y="528048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84640" y="453132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84640" y="378252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84640" y="3033360"/>
                <a:ext cx="7141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3291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859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5100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276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345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7736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4712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15080" y="592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72160" y="512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72160" y="439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72160" y="363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72160" y="286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00" y="243432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tag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84640" y="265896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20080" y="2658960"/>
              <a:ext cx="0" cy="3744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20080" y="303336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668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668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36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364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0960" y="453168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504520" y="453132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0452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18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184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1844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8440" y="3033360"/>
              <a:ext cx="156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540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540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108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0840" y="4531680"/>
              <a:ext cx="1569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68160" y="453168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190600" y="5355720"/>
              <a:ext cx="31356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68160" y="5355720"/>
              <a:ext cx="4708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839040" y="4531320"/>
              <a:ext cx="0" cy="82404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9040" y="453168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9600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9600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23144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31440" y="3033360"/>
              <a:ext cx="313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4536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5360" y="3782520"/>
              <a:ext cx="2354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080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0800" y="4531680"/>
              <a:ext cx="6274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408640" y="3782520"/>
              <a:ext cx="0" cy="7488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08640" y="3782520"/>
              <a:ext cx="1566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565600" y="3108600"/>
              <a:ext cx="0" cy="67392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5600" y="3108600"/>
              <a:ext cx="47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36480" y="3108600"/>
              <a:ext cx="0" cy="67392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36480" y="3782520"/>
              <a:ext cx="8632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90012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00120" y="3033360"/>
              <a:ext cx="313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13680" y="303336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13680" y="3782520"/>
              <a:ext cx="7848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998480" y="3033000"/>
              <a:ext cx="0" cy="74916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98480" y="3033360"/>
              <a:ext cx="2354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8233920" y="2658960"/>
              <a:ext cx="0" cy="37440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33920" y="2658960"/>
              <a:ext cx="3920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14440" y="22096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Awak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4960" y="64479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Hours of 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42800" y="4906440"/>
              <a:ext cx="313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58880" y="4684320"/>
              <a:ext cx="19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REM 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1160" y="2376360"/>
            <a:ext cx="8862840" cy="4483080"/>
            <a:chOff x="281160" y="2376360"/>
            <a:chExt cx="8862840" cy="4483080"/>
          </a:xfrm>
        </p:grpSpPr>
        <p:grpSp>
          <p:nvGrpSpPr>
            <p:cNvPr id="410" name=""/>
            <p:cNvGrpSpPr/>
            <p:nvPr/>
          </p:nvGrpSpPr>
          <p:grpSpPr>
            <a:xfrm>
              <a:off x="1881360" y="2528640"/>
              <a:ext cx="5486400" cy="3505320"/>
              <a:chOff x="1881360" y="2528640"/>
              <a:chExt cx="5486400" cy="3505320"/>
            </a:xfrm>
          </p:grpSpPr>
          <p:sp>
            <p:nvSpPr>
              <p:cNvPr id="411" name=""/>
              <p:cNvSpPr/>
              <p:nvPr/>
            </p:nvSpPr>
            <p:spPr>
              <a:xfrm>
                <a:off x="1881360" y="2528640"/>
                <a:ext cx="5486400" cy="3505320"/>
              </a:xfrm>
              <a:prstGeom prst="rect">
                <a:avLst/>
              </a:prstGeom>
              <a:solidFill>
                <a:srgbClr val="9cdcda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671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529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87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245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103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961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81960" y="2528640"/>
                <a:ext cx="0" cy="35053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881360" y="306216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81360" y="367164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81360" y="428148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881360" y="489096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81360" y="5500440"/>
                <a:ext cx="548640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863880" y="64911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Hours of sleep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160" y="2376360"/>
              <a:ext cx="1143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Minut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of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Stage 4 and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REM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76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60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8280" y="60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74080" y="60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598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6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3148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10800" y="60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72120" y="5881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5400" y="4676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45400" y="4128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5400" y="3457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44540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72120" y="528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09960" y="3214440"/>
              <a:ext cx="685800" cy="14479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95760" y="4662360"/>
              <a:ext cx="761760" cy="22860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57520" y="4890960"/>
              <a:ext cx="685800" cy="8380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43320" y="5729040"/>
              <a:ext cx="1371600" cy="15264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614920" y="5805360"/>
              <a:ext cx="762120" cy="7632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77040" y="5805360"/>
              <a:ext cx="762120" cy="1522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033640" y="4814280"/>
              <a:ext cx="6094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643120" y="4738320"/>
              <a:ext cx="1067040" cy="75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710160" y="4205160"/>
              <a:ext cx="38088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091040" y="3976200"/>
              <a:ext cx="83808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929120" y="3900240"/>
              <a:ext cx="609840" cy="7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538960" y="3366720"/>
              <a:ext cx="68580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224760" y="3214440"/>
              <a:ext cx="914400" cy="15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20040" y="2555640"/>
              <a:ext cx="162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Decreasing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Stage 4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6360" y="3214440"/>
              <a:ext cx="1066680" cy="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56760" y="410832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Increasing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REM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2320" y="4738680"/>
              <a:ext cx="10670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2286000"/>
            <a:ext cx="83822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leep Disorder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somnia, Nightmares/Night Terrors, Sleep Walking, and Sleep Apn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ople need less sleep as they get old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Babies need 16-18 hours of sleep da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Teens 10-11 hours, adults 8 hours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Seniors citizens need 5-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1219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565800" cy="5029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038480" y="2057400"/>
            <a:ext cx="4876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Arial Narrow"/>
              </a:rPr>
              <a:t>Effects of Sleep Lo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ati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mpaired concent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epressed immune sys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reater vulnerability to acci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057400"/>
            <a:ext cx="876312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reams get longer throughout the night with the last one the most likely to be remember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reams have a purpose according to many psychologists but they disagree on what it 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Sigmund Freud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irst to thoroughly study dreams believing they fulfilled hidden wish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Manifest Conte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of dreams comes from the re-living of the day’s events in your dre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Latent Conte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of dreams comes from repressed unconscious desires, often of a sexual natu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828800" y="76212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Hypnosis …Hallucinations …Med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1752480"/>
            <a:ext cx="815328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Hypnosis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Characterized by a narrow focus of attention and heightened suggesti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ypnotic trance is not sleep, but rather a loss of interest in external distrac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ubject must be willing to cooperate, and will only do things they normally would 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Dissociation Theor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s. </a:t>
            </a: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Hidden Observer Theo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752480"/>
            <a:ext cx="84582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Dissociation Theory of 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ate of subconscious control through focus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rtain thoughts, emotions, sensations, and/or memories are separated “out” by your mi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n also be reached thru traumatic accidents/ev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 Traumatic Stress Disor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sociative Identity Disorder (D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erly Multiple Personality Disor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Meanings of Consciousness (Three view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185920"/>
            <a:ext cx="891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Sensory Aware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nsory awareness of our environ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Direct Inner Aware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ntal pictures and “feelings” (like love, anger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a Sense of Se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ferent viewpoints for different peop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1752480"/>
            <a:ext cx="81532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72"/>
                </a:solidFill>
                <a:latin typeface="Times New Roman"/>
              </a:rPr>
              <a:t>Hidden Observer Theory of 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under hypnotic control, awareness of the world around you isn’t “off” – just merely separa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son may be “aware” of actions but not have any idea why the action is taking place or h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w those actions take place is through the “hidden observer”, who is like an autopilot for your mi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962520" y="2133720"/>
            <a:ext cx="487656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Posthypnotic Suggestion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ypnotist gets subjects to do things after trance has ended … normally for treatment of a psychological condi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moking cessation, anxiety relief, weight loss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04920" y="57150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562720"/>
            <a:ext cx="3733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on-hypnotized persons can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lso do th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0880" y="1752480"/>
            <a:ext cx="79250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Perceptions that have no direct external cause and are not input from the sens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uses includ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nosis</a:t>
            </a:r>
            <a:r>
              <a:rPr b="0" lang="en-US" sz="2800" spc="-1" strike="noStrike">
                <a:solidFill>
                  <a:srgbClr val="ab69c3"/>
                </a:solidFill>
                <a:latin typeface="Times New Roman"/>
              </a:rPr>
              <a:t>, medit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some </a:t>
            </a:r>
            <a:r>
              <a:rPr b="0" lang="en-US" sz="2800" spc="-1" strike="noStrike">
                <a:solidFill>
                  <a:srgbClr val="3a9e48"/>
                </a:solidFill>
                <a:latin typeface="Times New Roman"/>
              </a:rPr>
              <a:t>drug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46596"/>
                </a:solidFill>
                <a:latin typeface="Times New Roman"/>
              </a:rPr>
              <a:t>addiction withdraw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bbe17"/>
                </a:solidFill>
                <a:latin typeface="Times New Roman"/>
              </a:rPr>
              <a:t>psych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4f8"/>
                </a:solidFill>
                <a:latin typeface="Times New Roman"/>
              </a:rPr>
              <a:t>Detect increase Dopamine levels in the br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llucinations are very similar from one person to the next due to brain’s rea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2" name="bd00378_" descr=""/>
          <p:cNvPicPr/>
          <p:nvPr/>
        </p:nvPicPr>
        <p:blipFill>
          <a:blip r:embed="rId1"/>
          <a:stretch/>
        </p:blipFill>
        <p:spPr>
          <a:xfrm>
            <a:off x="0" y="5337000"/>
            <a:ext cx="3733920" cy="1521000"/>
          </a:xfrm>
          <a:prstGeom prst="rect">
            <a:avLst/>
          </a:prstGeom>
          <a:ln w="0">
            <a:noFill/>
          </a:ln>
        </p:spPr>
      </p:pic>
      <p:pic>
        <p:nvPicPr>
          <p:cNvPr id="483" name="bd00363_" descr=""/>
          <p:cNvPicPr/>
          <p:nvPr/>
        </p:nvPicPr>
        <p:blipFill>
          <a:blip r:embed="rId2"/>
          <a:stretch/>
        </p:blipFill>
        <p:spPr>
          <a:xfrm>
            <a:off x="3733920" y="533412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484" name="bd00369_" descr=""/>
          <p:cNvPicPr/>
          <p:nvPr/>
        </p:nvPicPr>
        <p:blipFill>
          <a:blip r:embed="rId3"/>
          <a:stretch/>
        </p:blipFill>
        <p:spPr>
          <a:xfrm>
            <a:off x="6781680" y="533412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609480" y="1676520"/>
            <a:ext cx="246708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Hallucinations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6" name="bd06651_" descr=""/>
          <p:cNvPicPr/>
          <p:nvPr/>
        </p:nvPicPr>
        <p:blipFill>
          <a:blip r:embed="rId4"/>
          <a:stretch/>
        </p:blipFill>
        <p:spPr>
          <a:xfrm>
            <a:off x="7772400" y="1752480"/>
            <a:ext cx="1371600" cy="3581640"/>
          </a:xfrm>
          <a:prstGeom prst="rect">
            <a:avLst/>
          </a:prstGeom>
          <a:ln w="0">
            <a:noFill/>
          </a:ln>
        </p:spPr>
      </p:pic>
      <p:pic>
        <p:nvPicPr>
          <p:cNvPr id="487" name="bd05817_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1676520"/>
            <a:ext cx="541008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nsory Deprivation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everely limiting sensory inputs to a person’s br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eople quickly become irritable, restless, upset and some begin to hallucin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iofeedback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Learning to voluntarily control autonomic nervous system processes with the help of feedb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cientists used to believe heart rate, blood pressure, sweating etc. were involunt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0" name="bd05199_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819520" cy="2487600"/>
          </a:xfrm>
          <a:prstGeom prst="rect">
            <a:avLst/>
          </a:prstGeom>
          <a:ln w="0">
            <a:noFill/>
          </a:ln>
        </p:spPr>
      </p:pic>
      <p:pic>
        <p:nvPicPr>
          <p:cNvPr id="491" name="bd00072_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968560" cy="2590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1828800"/>
            <a:ext cx="6400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ditation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ocusing attention with the goal of clearing the mind to gain “inner peace” (self-hypnos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64f8"/>
                </a:solidFill>
                <a:latin typeface="Times New Roman"/>
              </a:rPr>
              <a:t>Mantra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Special word that is repeated over and over causing deep relaxation respon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75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7572"/>
                </a:solidFill>
                <a:latin typeface="Times New Roman"/>
              </a:rPr>
              <a:t>The Four Elements of Meditation; </a:t>
            </a:r>
            <a:r>
              <a:rPr b="0" lang="en-US" sz="3200" spc="-1" strike="noStrike">
                <a:solidFill>
                  <a:srgbClr val="3a9e48"/>
                </a:solidFill>
                <a:latin typeface="Times New Roman"/>
              </a:rPr>
              <a:t>Quiet, Comfortable, a “Mental Device” (Mantra), &amp; Passive At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4" name="bd06528_" descr=""/>
          <p:cNvPicPr/>
          <p:nvPr/>
        </p:nvPicPr>
        <p:blipFill>
          <a:blip r:embed="rId1"/>
          <a:stretch/>
        </p:blipFill>
        <p:spPr>
          <a:xfrm>
            <a:off x="6499080" y="2362320"/>
            <a:ext cx="2595600" cy="3047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7Q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828800" y="76212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HAPTER 7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f8"/>
                </a:solidFill>
                <a:latin typeface="Times New Roman"/>
              </a:rPr>
              <a:t>Section 7Q3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Psychoactive Drug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8600" y="1676520"/>
            <a:ext cx="85345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sychoactive Drug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teract with the Central Nervous System to alter mood, perception, and behavi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anges from caffeine to marijuana, alcohol, amphetamines, LSD, Coca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9" name="bd06493_" descr=""/>
          <p:cNvPicPr/>
          <p:nvPr/>
        </p:nvPicPr>
        <p:blipFill>
          <a:blip r:embed="rId1"/>
          <a:stretch/>
        </p:blipFill>
        <p:spPr>
          <a:xfrm>
            <a:off x="2286000" y="4606920"/>
            <a:ext cx="4572000" cy="2232000"/>
          </a:xfrm>
          <a:prstGeom prst="rect">
            <a:avLst/>
          </a:prstGeom>
          <a:ln w="0">
            <a:noFill/>
          </a:ln>
        </p:spPr>
      </p:pic>
      <p:pic>
        <p:nvPicPr>
          <p:cNvPr id="500" name="bd05123_" descr=""/>
          <p:cNvPicPr/>
          <p:nvPr/>
        </p:nvPicPr>
        <p:blipFill>
          <a:blip r:embed="rId2"/>
          <a:stretch/>
        </p:blipFill>
        <p:spPr>
          <a:xfrm>
            <a:off x="0" y="4876920"/>
            <a:ext cx="1986120" cy="1704960"/>
          </a:xfrm>
          <a:prstGeom prst="rect">
            <a:avLst/>
          </a:prstGeom>
          <a:ln w="0">
            <a:noFill/>
          </a:ln>
        </p:spPr>
      </p:pic>
      <p:pic>
        <p:nvPicPr>
          <p:cNvPr id="501" name="bd00026_" descr=""/>
          <p:cNvPicPr/>
          <p:nvPr/>
        </p:nvPicPr>
        <p:blipFill>
          <a:blip r:embed="rId3"/>
          <a:stretch/>
        </p:blipFill>
        <p:spPr>
          <a:xfrm>
            <a:off x="7162920" y="4724280"/>
            <a:ext cx="1981080" cy="18417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828800"/>
            <a:ext cx="83055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pressant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duce sleep, relaxation, impaired judgment/coordination, anxiety relie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Barbiturates, Quaaludes, Valium/Librium, Alcoho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4" name="bd00040_" descr=""/>
          <p:cNvPicPr/>
          <p:nvPr/>
        </p:nvPicPr>
        <p:blipFill>
          <a:blip r:embed="rId1"/>
          <a:stretch/>
        </p:blipFill>
        <p:spPr>
          <a:xfrm>
            <a:off x="533520" y="3992400"/>
            <a:ext cx="2057400" cy="1997280"/>
          </a:xfrm>
          <a:prstGeom prst="rect">
            <a:avLst/>
          </a:prstGeom>
          <a:ln w="0">
            <a:noFill/>
          </a:ln>
        </p:spPr>
      </p:pic>
      <p:pic>
        <p:nvPicPr>
          <p:cNvPr id="505" name="an02346_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427120" cy="2235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676520"/>
            <a:ext cx="8686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iates: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duce sedation, pain relief, apathy, impaired intellect/coordination, naus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narcotics such as opium, heroin, morphine, codeine, Demero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8" name="HM00163_" descr=""/>
          <p:cNvPicPr/>
          <p:nvPr/>
        </p:nvPicPr>
        <p:blipFill>
          <a:blip r:embed="rId1"/>
          <a:stretch/>
        </p:blipFill>
        <p:spPr>
          <a:xfrm>
            <a:off x="3124080" y="3735360"/>
            <a:ext cx="4419720" cy="31226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1752480"/>
            <a:ext cx="83059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imul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alertness, elevated mood, wakefulness, appetite loss, high heart r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amphetamines, Dexedrine, Ritalin, Cocaine, Caffeine, Nicot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11" name="bd00039_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984320" cy="2073240"/>
          </a:xfrm>
          <a:prstGeom prst="rect">
            <a:avLst/>
          </a:prstGeom>
          <a:ln w="0">
            <a:noFill/>
          </a:ln>
        </p:spPr>
      </p:pic>
      <p:pic>
        <p:nvPicPr>
          <p:cNvPr id="512" name="bd05203_" descr=""/>
          <p:cNvPicPr/>
          <p:nvPr/>
        </p:nvPicPr>
        <p:blipFill>
          <a:blip r:embed="rId2"/>
          <a:stretch/>
        </p:blipFill>
        <p:spPr>
          <a:xfrm>
            <a:off x="228600" y="417024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513" name="bd07151_" descr=""/>
          <p:cNvPicPr/>
          <p:nvPr/>
        </p:nvPicPr>
        <p:blipFill>
          <a:blip r:embed="rId3"/>
          <a:stretch/>
        </p:blipFill>
        <p:spPr>
          <a:xfrm>
            <a:off x="7442280" y="3505320"/>
            <a:ext cx="1479600" cy="26636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562720" y="9907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Levels of (Waking) Conscious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762120"/>
            <a:ext cx="89154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ceptions and Thou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mories and Stored Knowled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nconscious (or Subconscious)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lfish needs, Immoral urges, Fears, Violent motives, Irrational wishes, Shameful experiences, unacceptable desi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onconscious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iological functions (heart rate, growth, breathing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920" y="1752480"/>
            <a:ext cx="861048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sychedelic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distorted thoughts and perceptions, hallucinations anxiety, mood swings, violent behavi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LSD, Mescaline, PCP, Psilocybin, Marijuana, Hashis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16" name="bd06787_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2590560" cy="2058840"/>
          </a:xfrm>
          <a:prstGeom prst="rect">
            <a:avLst/>
          </a:prstGeom>
          <a:ln w="0">
            <a:noFill/>
          </a:ln>
        </p:spPr>
      </p:pic>
      <p:pic>
        <p:nvPicPr>
          <p:cNvPr id="517" name="bd06651_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2057400" cy="2044440"/>
          </a:xfrm>
          <a:prstGeom prst="rect">
            <a:avLst/>
          </a:prstGeom>
          <a:ln w="0">
            <a:noFill/>
          </a:ln>
        </p:spPr>
      </p:pic>
      <p:pic>
        <p:nvPicPr>
          <p:cNvPr id="518" name="EN00378_" descr=""/>
          <p:cNvPicPr/>
          <p:nvPr/>
        </p:nvPicPr>
        <p:blipFill>
          <a:blip r:embed="rId3"/>
          <a:stretch/>
        </p:blipFill>
        <p:spPr>
          <a:xfrm>
            <a:off x="6323040" y="4267080"/>
            <a:ext cx="2820960" cy="21765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04920" y="19051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1828800"/>
            <a:ext cx="82296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tidepress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Induce relief of depression, mood elevation, st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 Lithium, Dibenzapines, MAO inhibi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2" name="bd06547_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2514600" cy="2384280"/>
          </a:xfrm>
          <a:prstGeom prst="rect">
            <a:avLst/>
          </a:prstGeom>
          <a:ln w="0">
            <a:noFill/>
          </a:ln>
        </p:spPr>
      </p:pic>
      <p:pic>
        <p:nvPicPr>
          <p:cNvPr id="523" name="bd06221_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476440" cy="2490840"/>
          </a:xfrm>
          <a:prstGeom prst="rect">
            <a:avLst/>
          </a:prstGeom>
          <a:ln w="0">
            <a:noFill/>
          </a:ln>
        </p:spPr>
      </p:pic>
      <p:pic>
        <p:nvPicPr>
          <p:cNvPr id="524" name="bd06100_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695600" cy="2439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9051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828800"/>
            <a:ext cx="82296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halant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Cause Euphoria, Shortness of Breath, Nausea, Headache, Dizziness, faint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include: Hydrocarbons, nitrous oxide, chlorohydrocarb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9" name="bd06049_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1839960" cy="2154240"/>
          </a:xfrm>
          <a:prstGeom prst="rect">
            <a:avLst/>
          </a:prstGeom>
          <a:ln w="0">
            <a:noFill/>
          </a:ln>
        </p:spPr>
      </p:pic>
      <p:pic>
        <p:nvPicPr>
          <p:cNvPr id="530" name="fd01051_" descr=""/>
          <p:cNvPicPr/>
          <p:nvPr/>
        </p:nvPicPr>
        <p:blipFill>
          <a:blip r:embed="rId2"/>
          <a:stretch/>
        </p:blipFill>
        <p:spPr>
          <a:xfrm>
            <a:off x="1219320" y="4233960"/>
            <a:ext cx="27432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676520"/>
            <a:ext cx="891540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64f8"/>
                </a:solidFill>
                <a:uFillTx/>
                <a:latin typeface="Times New Roman"/>
              </a:rPr>
              <a:t>All Psychoactive Drug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ave Long-Term negative effect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x: addiction, withdrawal, paranoia, brain damage, DEATH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e Short Term effects of psychoactive drugs last from     1-12 hours depending on the drug u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64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f8"/>
                </a:solidFill>
                <a:latin typeface="Times New Roman"/>
              </a:rPr>
              <a:t>Alcohol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Most used/abused mind altering substance in U.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81280" y="3890880"/>
            <a:ext cx="5257800" cy="2967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4419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9e48"/>
                </a:solidFill>
                <a:latin typeface="Times New Roman"/>
              </a:rPr>
              <a:t>Trends in Drug U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2520" y="2209680"/>
            <a:ext cx="4986360" cy="4318560"/>
            <a:chOff x="2520" y="2209680"/>
            <a:chExt cx="4986360" cy="4318560"/>
          </a:xfrm>
        </p:grpSpPr>
        <p:sp>
          <p:nvSpPr>
            <p:cNvPr id="536" name=""/>
            <p:cNvSpPr/>
            <p:nvPr/>
          </p:nvSpPr>
          <p:spPr>
            <a:xfrm>
              <a:off x="1154880" y="2209680"/>
              <a:ext cx="35323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54880" y="2209680"/>
              <a:ext cx="0" cy="3620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59240" y="6027840"/>
              <a:ext cx="25952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938520" y="2669760"/>
              <a:ext cx="0" cy="27651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5920" y="5882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mal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56640" y="58690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Larg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81760" y="615996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Drug dos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4040" y="542340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Littl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7800" y="220968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Big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20" y="29790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Drug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44080" y="292104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Response t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first exposur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52680" y="3131280"/>
              <a:ext cx="432360" cy="131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2880" y="2999520"/>
              <a:ext cx="1874520" cy="2830680"/>
            </a:xfrm>
            <a:custGeom>
              <a:avLst/>
              <a:gdLst/>
              <a:ahLst/>
              <a:rect l="l" t="t" r="r" b="b"/>
              <a:pathLst>
                <a:path w="1200" h="1968">
                  <a:moveTo>
                    <a:pt x="0" y="1968"/>
                  </a:moveTo>
                  <a:cubicBezTo>
                    <a:pt x="144" y="1580"/>
                    <a:pt x="288" y="1192"/>
                    <a:pt x="384" y="960"/>
                  </a:cubicBezTo>
                  <a:cubicBezTo>
                    <a:pt x="480" y="728"/>
                    <a:pt x="496" y="696"/>
                    <a:pt x="576" y="576"/>
                  </a:cubicBezTo>
                  <a:cubicBezTo>
                    <a:pt x="656" y="456"/>
                    <a:pt x="760" y="336"/>
                    <a:pt x="864" y="240"/>
                  </a:cubicBezTo>
                  <a:cubicBezTo>
                    <a:pt x="968" y="144"/>
                    <a:pt x="1084" y="72"/>
                    <a:pt x="12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90240" y="4236480"/>
              <a:ext cx="1689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After repeate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exposure, mor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drug is neede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to produce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same effec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85040" y="4250160"/>
              <a:ext cx="288000" cy="1317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63960" y="3131280"/>
              <a:ext cx="1946520" cy="2699280"/>
            </a:xfrm>
            <a:custGeom>
              <a:avLst/>
              <a:gdLst/>
              <a:ahLst/>
              <a:rect l="l" t="t" r="r" b="b"/>
              <a:pathLst>
                <a:path w="1200" h="1968">
                  <a:moveTo>
                    <a:pt x="0" y="1968"/>
                  </a:moveTo>
                  <a:cubicBezTo>
                    <a:pt x="144" y="1580"/>
                    <a:pt x="288" y="1192"/>
                    <a:pt x="384" y="960"/>
                  </a:cubicBezTo>
                  <a:cubicBezTo>
                    <a:pt x="480" y="728"/>
                    <a:pt x="496" y="696"/>
                    <a:pt x="576" y="576"/>
                  </a:cubicBezTo>
                  <a:cubicBezTo>
                    <a:pt x="656" y="456"/>
                    <a:pt x="760" y="336"/>
                    <a:pt x="864" y="240"/>
                  </a:cubicBezTo>
                  <a:cubicBezTo>
                    <a:pt x="968" y="144"/>
                    <a:pt x="1084" y="72"/>
                    <a:pt x="12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54880" y="5830560"/>
              <a:ext cx="35323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502920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oler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minishing effect with regular us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Withdraw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scomfort and distress that follow discontinued use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029200" y="22096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828800"/>
            <a:ext cx="91440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Drug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Tolerance Potential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64f8"/>
                </a:solidFill>
                <a:uFillTx/>
                <a:latin typeface="Times New Roman"/>
              </a:rPr>
              <a:t>Addiction Potent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(Leads to higher dosage)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Psychological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      Physi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ress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piat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imul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sychedelic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Y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tidepress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alant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076"/>
                </a:solidFill>
                <a:latin typeface="Times New Roman"/>
              </a:rPr>
              <a:t>Unknown”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a9e48"/>
                </a:solidFill>
                <a:latin typeface="Times New Roman"/>
              </a:rPr>
              <a:t>Moderat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“Unknown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289400" cy="487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4724280" y="2057400"/>
            <a:ext cx="4191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Narrow"/>
              </a:rPr>
              <a:t>Near-Death Exper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an altered state of consciousness reported after a close brush with deat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ften similar to drug-induced (LSD) halluc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609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64f8"/>
                </a:solidFill>
                <a:latin typeface="Times New Roman"/>
              </a:rPr>
              <a:t>Psychoactive Drug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Q3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562720" y="9907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8"/>
                </a:solidFill>
                <a:latin typeface="Times New Roman"/>
              </a:rPr>
              <a:t>Levels of (Altered) Consciousn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544760"/>
            <a:ext cx="48765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leep and Drea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edi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iofeedb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ypno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ressa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imula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allucinoge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2286000"/>
            <a:ext cx="9144000" cy="4572000"/>
            <a:chOff x="0" y="2286000"/>
            <a:chExt cx="9144000" cy="457200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228600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4572000"/>
              <a:ext cx="2666880" cy="2286000"/>
            </a:xfrm>
            <a:prstGeom prst="rect">
              <a:avLst/>
            </a:prstGeom>
            <a:solidFill>
              <a:srgbClr val="9cd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0" y="48769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easuring sleep ac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20968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1905120"/>
            <a:ext cx="8915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re are 4 stages of quiet sleep and 1 stage of active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rox.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75%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of sleep time is spent in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tages 1 thru 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pproximately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25%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of sleep time is spent </a:t>
            </a: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encephalograph (EEG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and other devices are used to measure sleep ac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191120" y="2235240"/>
            <a:ext cx="49528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a9e48"/>
                </a:solidFill>
                <a:latin typeface="Times New Roman"/>
              </a:rPr>
              <a:t>Stag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ulse s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reathing unev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uscles relax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witch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yes roll / visual imag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nsation of “drifting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sts about 10 minu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285640" y="2514600"/>
            <a:ext cx="198108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1325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191120" y="2324160"/>
            <a:ext cx="4952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465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659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46596"/>
                </a:solidFill>
                <a:latin typeface="Times New Roman"/>
              </a:rPr>
              <a:t>Stage 2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lower brain wa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yes move slowly from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de-to-si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sts about 30 minu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19160" y="2590920"/>
            <a:ext cx="1447560" cy="1143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f8"/>
                </a:solidFill>
                <a:latin typeface="Times New Roman"/>
              </a:rPr>
              <a:t>Sleeping and Dream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168800" cy="480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191120" y="2324160"/>
            <a:ext cx="495288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4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bbe17"/>
                </a:solidFill>
                <a:latin typeface="Times New Roman"/>
              </a:rPr>
              <a:t>Stage 3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eper slee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arge delta brain waves every few secon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aries in leng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209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352680" y="2590920"/>
            <a:ext cx="914400" cy="19047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Altered States of Consciousness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7Q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2-08T21:01:04Z</dcterms:modified>
  <cp:revision>175</cp:revision>
  <dc:subject/>
  <dc:title>No Slide Title</dc:title>
</cp:coreProperties>
</file>